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14F7-3865-40FE-A0FE-79729BD29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EC4A-1BDA-4D54-91A3-59FEE4914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119C-2DFA-43D4-B745-978AD83F5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7592-4C96-463D-AE28-FBA2549D3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83B1D-17FB-49E1-A826-2A922D751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2678D-7795-4215-94F8-D62777DDD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3322B-7A0C-4F00-908C-F4D15FC06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CE2B0-97BF-4C5A-834E-F7B328AB6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F9F18-E663-4EC5-AA7D-26D68EBEC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6803C-3ECD-49CB-B2F1-56CA168C8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28098-C55D-484B-960B-8DC56A3B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170B-FE1C-4525-9F48-CDCE1291A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5ABAB-89AC-4224-AF61-46A0190E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14C8D-49C7-43AF-A5E3-2C6FD2A49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CA752-D7FC-4FC0-9C3C-54CAE1773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87F8A-4139-4832-BB3F-862899422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99F3E-D18E-4E30-9E1E-B205C5CE5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D621-B710-4E21-8680-117577F02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C0C2-BCBD-4292-B564-F38DB0B36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DDE8-136A-42A8-A5A6-FC10C29E6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03D9-298E-46DF-8BE9-D53787E47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4AE3-B75E-4326-B3AB-5BB7DD7A4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060C-A5C8-4666-AB29-987F6A2B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58D7-32A4-4554-9703-61AE16A14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0FBCD-9BD5-4333-A5C7-F61ECB20458D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C0A1B-D0EF-479C-B77B-84217B1BF262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Internet%20Explorer%20墙纸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04920" y="3049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33"/>
                </a:solidFill>
                <a:latin typeface="Times New Roman"/>
                <a:ea typeface="华文行楷"/>
              </a:rPr>
              <a:t>定语从句</a:t>
            </a:r>
            <a:r>
              <a:rPr b="0" lang="zh-CN" sz="7200" spc="-1" strike="noStrike">
                <a:solidFill>
                  <a:srgbClr val="ff0000"/>
                </a:solidFill>
                <a:latin typeface="华文行楷"/>
                <a:ea typeface="华文行楷"/>
              </a:rPr>
              <a:t>专题讲座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143000" y="5943600"/>
            <a:ext cx="6781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XZ Middle School</a:t>
            </a:r>
            <a:endParaRPr b="1" i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61048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304920"/>
            <a:ext cx="9144000" cy="36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3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She has two brothers,who are both doctor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4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Last Saturday they reached Shanghai,where a meeting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is to be hel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2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 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在非限制性定语从句中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as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与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which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可以在整个主句作为其先行词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指代上面或下面说的一件事，其区别如下：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1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a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从意义上来看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which(=and this/that)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可以译为“这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/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那”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as(=in accordance with what)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译为“正如、象”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038480"/>
            <a:ext cx="9144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He is a teacher,which(=as)is clear from his manner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或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He is a teacher,as(=which)can be seen from his manner.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The student forgot to bring his dictionary,as is often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the case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（此句中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as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不能用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which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代。）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380880"/>
            <a:ext cx="925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2  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b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从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as,which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在非限制性定语从句中的位置和作用来看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as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引导的从句可置于主句之前，亦可置于主句之后，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which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一般置于主句之后。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981080"/>
            <a:ext cx="9144000" cy="40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E.g.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1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 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This poem is written by Scott,as almost everybody knows.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or:This poem,which almost everybody knows,is written by Scot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2.   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Oceans cover more than 70 percent of the earth,as we have seen.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or:As is well-known to us all ,oceans cover more  than 70 percent of the earth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但不可译为：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Which is well-know to us all,oceans cover more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than 70 percent of the earth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9144000" cy="45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一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用适当的关系代词或关系副词：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1.Yesterday I met doctor Wang _____told me the good news o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　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his son's passing the examina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2.The two pupils______ you taught three yeas ago have beco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　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teachers.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3.He began to work in Beijing in the year______ New China 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　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founded.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4.I don't know the reason______ she did n't agree to our plan.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5.This is a soldier________ died in the war of Resist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86200" y="22860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Who,th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16765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imes New Roman"/>
              </a:rPr>
              <a:t>Who / that / wh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952880" y="25066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imes New Roman"/>
              </a:rPr>
              <a:t>wh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24080" y="34290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imes New Roman"/>
              </a:rPr>
              <a:t>wh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62320" y="38862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</a:rPr>
              <a:t>Who/th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9144000" cy="46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6.He told everything    ________he had seen in the traffic accident.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7.This was the best model of the TV set_________ the facto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　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produced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　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last year.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8.They have visited the Museum of Chinese Histor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　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___________Premier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z h o u ‘ s life and deeds are being shown.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9.Alice,_______dress is all red, looks very pretty.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10.The first thing ________I am going to do this evening is to write 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　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report about the experimen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66880" y="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29200" y="6094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20574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43000" y="2666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who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0" y="33526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imes New Roman"/>
              </a:rPr>
              <a:t>th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2313000"/>
            <a:ext cx="95248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456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33"/>
                </a:solidFill>
                <a:latin typeface="Times New Roman"/>
                <a:ea typeface="华文新魏"/>
              </a:rPr>
              <a:t>           </a:t>
            </a:r>
            <a:r>
              <a:rPr b="1" lang="zh-CN" sz="3200" spc="-1" strike="noStrike">
                <a:solidFill>
                  <a:srgbClr val="ff0033"/>
                </a:solidFill>
                <a:latin typeface="Times New Roman"/>
                <a:ea typeface="华文新魏"/>
              </a:rPr>
              <a:t>学习定语从句的关键是如何选择关联词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。关联词在句中作状语就应使用关系副词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.(where, when ,why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等。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否则使用关系代词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(who ,whom, whose,which, that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等。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33"/>
                </a:solidFill>
                <a:latin typeface="Times New Roman"/>
                <a:ea typeface="华文新魏"/>
              </a:rPr>
              <a:t>二、</a:t>
            </a:r>
            <a:r>
              <a:rPr b="1" lang="zh-CN" sz="2800" spc="-1" strike="noStrike">
                <a:solidFill>
                  <a:srgbClr val="ff0033"/>
                </a:solidFill>
                <a:latin typeface="Arial"/>
                <a:ea typeface="华文新魏"/>
              </a:rPr>
              <a:t>由</a:t>
            </a:r>
            <a:r>
              <a:rPr b="1" lang="zh-CN" sz="2800" spc="-1" strike="noStrike">
                <a:solidFill>
                  <a:srgbClr val="ff0033"/>
                </a:solidFill>
                <a:latin typeface="Arial"/>
                <a:ea typeface="华文新魏"/>
              </a:rPr>
              <a:t>who,whom,whose</a:t>
            </a:r>
            <a:r>
              <a:rPr b="1" lang="zh-CN" sz="2800" spc="-1" strike="noStrike">
                <a:solidFill>
                  <a:srgbClr val="ff0033"/>
                </a:solidFill>
                <a:latin typeface="Arial"/>
                <a:ea typeface="华文新魏"/>
              </a:rPr>
              <a:t>引导的定语从句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(who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作主语，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whom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作宾语，    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whose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用作定语，同时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whose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还可以指物，相当于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of which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。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e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.g.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This is the doctor who save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the baby's lif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He is the student whom the teacher praised at the meeting.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456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一、           在复句中修饰名词或代词的从句叫做定语从句。需要学习和掌握的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定语从句有以下三种：由关系代词或关系副词引导的定语从句。由介词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+which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引导的定语从句。非限制性定语从句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228600"/>
            <a:ext cx="914400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 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I know the girl whose mother died a year ag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 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Have you seen the notebook whose cover is black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33"/>
                </a:solidFill>
                <a:latin typeface="Arial"/>
                <a:ea typeface="华文新魏"/>
              </a:rPr>
              <a:t>三、由</a:t>
            </a:r>
            <a:r>
              <a:rPr b="0" lang="zh-CN" sz="3200" spc="-1" strike="noStrike">
                <a:solidFill>
                  <a:srgbClr val="ff0033"/>
                </a:solidFill>
                <a:latin typeface="Arial"/>
                <a:ea typeface="华文新魏"/>
              </a:rPr>
              <a:t>which</a:t>
            </a:r>
            <a:r>
              <a:rPr b="0" lang="zh-CN" sz="3200" spc="-1" strike="noStrike">
                <a:solidFill>
                  <a:srgbClr val="ff0033"/>
                </a:solidFill>
                <a:latin typeface="Arial"/>
                <a:ea typeface="华文新魏"/>
              </a:rPr>
              <a:t>引导的定语从句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：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(which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在从句中作主语或谓语动词的宾 语。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E.g.1.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 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This is the store which opens all nigh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 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This is the pen which my brother bought for 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 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Is this the House in which Lu X un once lived?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(or Is this the house which Lu X un once lived in?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4.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 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This is the magazine which you are looking fo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914400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Notes: which,whom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在从句中作介词的宾语时，介词一般可置                                                                                                                                                                                                                                                    关系代词之前或放在从句原来的位置。但在含有介词的动词固定短语中介词只能放在原来的位置上，而不能放在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which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之前，如例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则不能改为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This is the magazine for which you are look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3.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 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He lives in a room whose window opens to the sout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629400" cy="24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33"/>
                </a:solidFill>
                <a:latin typeface="Arial"/>
                <a:ea typeface="华文新魏"/>
              </a:rPr>
              <a:t>四由</a:t>
            </a:r>
            <a:r>
              <a:rPr b="1" lang="zh-CN" sz="3200" spc="-1" strike="noStrike">
                <a:solidFill>
                  <a:srgbClr val="ff0033"/>
                </a:solidFill>
                <a:latin typeface="Arial"/>
                <a:ea typeface="华文新魏"/>
              </a:rPr>
              <a:t>that</a:t>
            </a:r>
            <a:r>
              <a:rPr b="1" lang="zh-CN" sz="3200" spc="-1" strike="noStrike">
                <a:solidFill>
                  <a:srgbClr val="ff0033"/>
                </a:solidFill>
                <a:latin typeface="Arial"/>
                <a:ea typeface="华文新魏"/>
              </a:rPr>
              <a:t>引导的定语从句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,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可以指人或物，代替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who,whom,which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1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 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在定语从句中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that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在从句中作主语、宾语，但不能放在介词后作介词宾语：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676520"/>
            <a:ext cx="8381880" cy="28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E.g.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1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This is the photo(that/which)I took in Beijing last yea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2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This is the man(that/who)lives next doo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3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Is this the professor that you talked about yesterday?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(about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不能放在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that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前面。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4648320"/>
            <a:ext cx="6858000" cy="11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但下列情况只能用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that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1. 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序数词或最高级形容词修饰先行词时用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that</a:t>
            </a:r>
            <a:r>
              <a:rPr b="0" lang="zh-CN" sz="1300" spc="-1" strike="noStrike">
                <a:solidFill>
                  <a:srgbClr val="ffffff"/>
                </a:solidFill>
                <a:latin typeface="Arial"/>
              </a:rPr>
              <a:t>。</a:t>
            </a:r>
            <a:r>
              <a:rPr b="0" lang="zh-CN" sz="13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304920"/>
            <a:ext cx="914400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E.g.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This is one of the best novels that I have ever re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The first English song that I learned was ABC so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All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much,everything,nothing,something,anything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作先行词时用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that.(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但先行词是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everybody,everyone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时应用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who,one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指人时也用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。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9144000" cy="39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E.g.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1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Everything that we saw at the exhibition greatly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interested u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2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Is there anything that belongs to you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3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All that we need is more tim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4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Nothing that the parents do does n't influence 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their childre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3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 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先行词为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any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、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no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、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only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、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very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等修饰时用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that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9144000" cy="28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E.g.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1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That is the only way that we can find at presen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2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This is the twelfth letter that she has received from hi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3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This is the very museum that we visited for the first tim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4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 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that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可以用来引导限制性定语从句，当它在从句中作介宾时，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介词应后移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438280"/>
            <a:ext cx="9144000" cy="22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E.g.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This is the good student that the teachers talked about 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just now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5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 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先行词既指人又指物的并列名词时，用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that.</a:t>
            </a:r>
            <a:r>
              <a:rPr b="1" lang="zh-CN" sz="13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0" y="5411880"/>
            <a:ext cx="457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32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E.g.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My mother and her old friends talked of the things  and persons 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that they remembered in the school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、</a:t>
            </a:r>
            <a:r>
              <a:rPr b="1" lang="zh-CN" sz="3200" spc="-1" strike="noStrike">
                <a:solidFill>
                  <a:srgbClr val="ff0033"/>
                </a:solidFill>
                <a:latin typeface="Times New Roman"/>
                <a:ea typeface="华文新魏"/>
              </a:rPr>
              <a:t>非限制性定语从句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限制性定语从句对先行词起限制作用，而非限制性定语从句是对概 念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清楚的先行词加以追加阐述或补充说明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276720"/>
            <a:ext cx="997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1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 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非限制性定语从句一般用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which/who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引导而不用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that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或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what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引导，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作宾语的关系代词不能省略，从句与主句用逗号分开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4038480"/>
            <a:ext cx="9144000" cy="22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华文新魏"/>
              </a:rPr>
              <a:t>E.g.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华文新魏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华文新魏"/>
              </a:rPr>
              <a:t>Yesterday I saw your brother,who told me the good news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华文新魏"/>
              </a:rPr>
              <a:t>of your mother's recovery from her illnes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华文新魏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华文新魏"/>
              </a:rPr>
              <a:t>I went to see their new house,which I liked very much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8T08:21:01Z</dcterms:created>
  <dc:creator>swh</dc:creator>
  <dc:description/>
  <dc:language>en-US</dc:language>
  <cp:lastModifiedBy>we</cp:lastModifiedBy>
  <dcterms:modified xsi:type="dcterms:W3CDTF">2002-06-22T23:15:22Z</dcterms:modified>
  <cp:revision>11</cp:revision>
  <dc:subject/>
  <dc:title>PowerPoint 演示文稿</dc:title>
</cp:coreProperties>
</file>